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5B196-E872-4FC1-893B-19BFFE76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FE9BC-D38B-47D8-B266-A42B0FC2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2E25D-0D19-4330-8F93-5969667A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BD89C-FA75-40E1-B687-50E47447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8DE8-3075-40EA-84CB-B8255810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E12B-37C7-4BF9-A652-E16CF692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928A-59E2-43FB-B2A9-5AD1896F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F51E-AA1F-4BDD-AD3B-45CA0898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8439-3570-49C4-A802-21260202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C22B-CA39-44B4-AD74-2D6F8A73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4D39-ABB7-4706-97A1-739BD8E7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004F0-A2DF-479E-B70A-E73AE960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0477-F70C-4884-BB95-65661611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DD18-4A53-41F5-85A5-C6F82CB6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1C29-A03B-42DD-BF12-5E36AF1A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2FAB-AF44-48F5-A571-536569E8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95A6-AB6D-4D6D-B08D-2F7A4F17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F141-02F1-4B93-87A7-DE653D55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C1074-FE35-455D-8ED1-8C004E8B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DA881-6F6F-417D-8C49-FDDE6BB8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20E45-75E6-4DDC-B6E2-49D343C8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53880-20F9-47C1-9CEC-824E47BA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2B0F9-B58B-4CFC-9125-37AA02A7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341F8-EA54-40E3-9D1E-3DAD1458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72E1-D6EC-4226-A379-DBDA71B5F0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78e7"/>
                  </a:gs>
                  <a:gs pos="100000">
                    <a:srgbClr val="ae85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78e7"/>
                  </a:gs>
                  <a:gs pos="100000">
                    <a:srgbClr val="ae85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6cd0"/>
                  </a:gs>
                  <a:gs pos="100000">
                    <a:srgbClr val="ae8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ae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85ff"/>
                  </a:gs>
                  <a:gs pos="100000">
                    <a:srgbClr val="9874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e85ff"/>
                </a:gs>
                <a:gs pos="100000">
                  <a:srgbClr val="927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93ff"/>
                </a:gs>
                <a:gs pos="100000">
                  <a:srgbClr val="ae8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78e7"/>
                  </a:gs>
                  <a:gs pos="100000">
                    <a:srgbClr val="ae85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78e7"/>
                  </a:gs>
                  <a:gs pos="100000">
                    <a:srgbClr val="ae85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6cd0"/>
                  </a:gs>
                  <a:gs pos="100000">
                    <a:srgbClr val="ae8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ae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85ff"/>
                  </a:gs>
                  <a:gs pos="100000">
                    <a:srgbClr val="9874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e85ff"/>
                </a:gs>
                <a:gs pos="100000">
                  <a:srgbClr val="927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93ff"/>
                </a:gs>
                <a:gs pos="100000">
                  <a:srgbClr val="ae8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9995-0532-4622-8067-31CD60B08F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0014"/>
                </a:solidFill>
                <a:latin typeface="Book Antiqua"/>
              </a:rPr>
              <a:t>Презентация по предмету </a:t>
            </a:r>
            <a:br>
              <a:rPr sz="3200"/>
            </a:br>
            <a:r>
              <a:rPr b="1" lang="en-US" sz="3200" spc="-1" strike="noStrike">
                <a:solidFill>
                  <a:srgbClr val="070014"/>
                </a:solidFill>
                <a:latin typeface="Book Antiqua"/>
              </a:rPr>
              <a:t>«Экономика предприят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250920" y="2071800"/>
            <a:ext cx="871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70014"/>
                </a:solidFill>
                <a:latin typeface="Book Antiqua"/>
              </a:rPr>
              <a:t>Тема: Оплата труда на предприяти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4"/>
          <p:cNvSpPr/>
          <p:nvPr/>
        </p:nvSpPr>
        <p:spPr>
          <a:xfrm>
            <a:off x="179280" y="0"/>
            <a:ext cx="8748720" cy="1828800"/>
          </a:xfrm>
          <a:prstGeom prst="leftRightArrow">
            <a:avLst>
              <a:gd name="adj1" fmla="val 50000"/>
              <a:gd name="adj2" fmla="val 9523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Повременная форма оплаты труда включает две систем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844640"/>
            <a:ext cx="4248360" cy="4751280"/>
          </a:xfrm>
          <a:custGeom>
            <a:avLst/>
            <a:gdLst>
              <a:gd name="textAreaLeft" fmla="*/ 207360 w 4248360"/>
              <a:gd name="textAreaRight" fmla="*/ 4041000 w 4248360"/>
              <a:gd name="textAreaTop" fmla="*/ 207360 h 4751280"/>
              <a:gd name="textAreaBottom" fmla="*/ 4543920 h 4751280"/>
            </a:gdLst>
            <a:ahLst/>
            <a:rect l="textAreaLeft" t="textAreaTop" r="textAreaRight" b="textAreaBottom"/>
            <a:pathLst>
              <a:path w="21600" h="24157">
                <a:moveTo>
                  <a:pt x="3600" y="0"/>
                </a:moveTo>
                <a:arcTo wR="3600" hR="3600" stAng="16200000" swAng="-5400000"/>
                <a:lnTo>
                  <a:pt x="0" y="20557"/>
                </a:lnTo>
                <a:arcTo wR="3600" hR="3600" stAng="10800000" swAng="-5400000"/>
                <a:lnTo>
                  <a:pt x="18000" y="241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0014"/>
                </a:solidFill>
                <a:latin typeface="Book Antiqua"/>
              </a:rPr>
              <a:t>При </a:t>
            </a:r>
            <a:r>
              <a:rPr b="1" i="1" lang="ru-RU" sz="1800" spc="-1" strike="noStrike">
                <a:solidFill>
                  <a:srgbClr val="070014"/>
                </a:solidFill>
                <a:latin typeface="Book Antiqua"/>
              </a:rPr>
              <a:t>простой повременной</a:t>
            </a:r>
            <a:r>
              <a:rPr b="1" lang="ru-RU" sz="1800" spc="-1" strike="noStrike">
                <a:solidFill>
                  <a:srgbClr val="070014"/>
                </a:solidFill>
                <a:latin typeface="Book Antiqua"/>
              </a:rPr>
              <a:t> системе размер заработной платы зависит от тарифной ставки работника и количества отработанного време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0014"/>
                </a:solidFill>
                <a:latin typeface="Book Antiqua"/>
              </a:rPr>
              <a:t>Зп = Тч *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0014"/>
                </a:solidFill>
                <a:latin typeface="Book Antiqua"/>
              </a:rPr>
              <a:t>где Зп — повременная заработная плата, тг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0014"/>
                </a:solidFill>
                <a:latin typeface="Book Antiqua"/>
              </a:rPr>
              <a:t>      </a:t>
            </a:r>
            <a:r>
              <a:rPr b="1" lang="ru-RU" sz="1800" spc="-1" strike="noStrike">
                <a:solidFill>
                  <a:srgbClr val="070014"/>
                </a:solidFill>
                <a:latin typeface="Book Antiqua"/>
              </a:rPr>
              <a:t>Тч — часовая (дневная) тарифная ставка рабочего соответствующего разря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0014"/>
                </a:solidFill>
                <a:latin typeface="Book Antiqua"/>
              </a:rPr>
              <a:t>      </a:t>
            </a:r>
            <a:r>
              <a:rPr b="1" lang="ru-RU" sz="1800" spc="-1" strike="noStrike">
                <a:solidFill>
                  <a:srgbClr val="070014"/>
                </a:solidFill>
                <a:latin typeface="Book Antiqua"/>
              </a:rPr>
              <a:t>В — фактически отработанное время, часы (дн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3280" y="1844640"/>
            <a:ext cx="4249800" cy="4751280"/>
          </a:xfrm>
          <a:custGeom>
            <a:avLst/>
            <a:gdLst>
              <a:gd name="textAreaLeft" fmla="*/ 207360 w 4249800"/>
              <a:gd name="textAreaRight" fmla="*/ 4042440 w 4249800"/>
              <a:gd name="textAreaTop" fmla="*/ 207360 h 4751280"/>
              <a:gd name="textAreaBottom" fmla="*/ 4543920 h 4751280"/>
            </a:gdLst>
            <a:ahLst/>
            <a:rect l="textAreaLeft" t="textAreaTop" r="textAreaRight" b="textAreaBottom"/>
            <a:pathLst>
              <a:path w="21600" h="24149">
                <a:moveTo>
                  <a:pt x="3600" y="0"/>
                </a:moveTo>
                <a:arcTo wR="3600" hR="3600" stAng="16200000" swAng="-5400000"/>
                <a:lnTo>
                  <a:pt x="0" y="20549"/>
                </a:lnTo>
                <a:arcTo wR="3600" hR="3600" stAng="10800000" swAng="-5400000"/>
                <a:lnTo>
                  <a:pt x="18000" y="24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70014"/>
                </a:solidFill>
                <a:latin typeface="Book Antiqua"/>
              </a:rPr>
              <a:t>Повременно-премиальная</a:t>
            </a:r>
            <a:r>
              <a:rPr b="1" lang="en-US" sz="1800" spc="-1" strike="noStrike">
                <a:solidFill>
                  <a:srgbClr val="070014"/>
                </a:solidFill>
                <a:latin typeface="Book Antiqua"/>
              </a:rPr>
              <a:t> система оплаты труда применяется с целью повышения качественных или количественных показателей (безаварийная работа, повышение качества продукци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0014"/>
                </a:solidFill>
                <a:latin typeface="Book Antiqua"/>
              </a:rPr>
              <a:t>Эти показатели премирования должны точно учитываться и отражать особенности работы тех или иных рабочих. По каждому показателю в отдельности устанавливается размер премии в зависимости от его знач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0014"/>
                </a:solidFill>
                <a:latin typeface="Book Antiqua"/>
              </a:rPr>
              <a:t>Существуют различные системы сдельной заработной платы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70014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0014"/>
                </a:solidFill>
                <a:latin typeface="Book Antiqua"/>
              </a:rPr>
              <a:t>прямая индивидуальна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70014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0014"/>
                </a:solidFill>
                <a:latin typeface="Book Antiqua"/>
              </a:rPr>
              <a:t>косвенно-сдельна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70014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0014"/>
                </a:solidFill>
                <a:latin typeface="Book Antiqua"/>
              </a:rPr>
              <a:t>сдельно-прогрессивную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70014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0014"/>
                </a:solidFill>
                <a:latin typeface="Book Antiqua"/>
              </a:rPr>
              <a:t>аккордно-сдельна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70014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0014"/>
                </a:solidFill>
                <a:latin typeface="Book Antiqua"/>
              </a:rPr>
              <a:t>сдельно-премиальна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0014"/>
                </a:solidFill>
                <a:latin typeface="Book Antiqua"/>
              </a:rPr>
              <a:t>3 Социальная защита работников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70014"/>
                </a:solidFill>
                <a:latin typeface="Book Antiqua"/>
              </a:rPr>
              <a:t>В республике сформирована </a:t>
            </a:r>
            <a:r>
              <a:rPr b="1" i="1" lang="en-US" sz="3000" spc="-1" strike="noStrike">
                <a:solidFill>
                  <a:srgbClr val="070014"/>
                </a:solidFill>
                <a:latin typeface="Book Antiqua"/>
              </a:rPr>
              <a:t>трехуровневая система социальной защиты</a:t>
            </a:r>
            <a:r>
              <a:rPr b="0" lang="en-US" sz="3000" spc="-1" strike="noStrike">
                <a:solidFill>
                  <a:srgbClr val="070014"/>
                </a:solidFill>
                <a:latin typeface="Book Antiqua"/>
              </a:rPr>
              <a:t> с распределением ответственности за состояние и устойчивость социального обеспечения между государством, работодателями и работником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70014"/>
                </a:solidFill>
                <a:latin typeface="Book Antiqua"/>
              </a:rPr>
              <a:t>Система обязательного социального страхования Казахстана является дополнительной формой социальной защиты участников системы, т.е. работающего населения республик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70014"/>
                </a:solidFill>
                <a:latin typeface="Book Antiqua"/>
              </a:rPr>
              <a:t>Первый уровень</a:t>
            </a: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 - гарантированные Конституцией Республики Казахстан социальные выплаты из республиканского бюджета, т.е. выплаты всем гражданам на одинаковом уровне без учета персонального вклада гражданина в развитие обществ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70014"/>
                </a:solidFill>
                <a:latin typeface="Book Antiqua"/>
              </a:rPr>
              <a:t>Второй уровень</a:t>
            </a: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 - дополнительное социальное обеспечение работающих граждан, учитывающее их персональный вклад в развитие общества, социальные выплаты из АО «Государственный фонд социального страхования»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0700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на случай утраты трудоспособност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0700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на случай потери кормильца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0700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на случай потери работы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0700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на случай потери дохода в связи с беременностью и родам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0700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на случай ухода за ребенком по достижении им возраста одного год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70014"/>
                </a:solidFill>
                <a:latin typeface="Book Antiqua"/>
              </a:rPr>
              <a:t>Третий уровень</a:t>
            </a: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 - социальные выплаты за счет добровольных видов страхова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0014"/>
                </a:solidFill>
                <a:latin typeface="Book Antiqua"/>
              </a:rPr>
              <a:t>Одними из участников системы обязательного социального страхования являются физические лица, за которых производились социальные отчисления и которые имеют право на получение социальных выплат при наступлении социальных риск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</a:rPr>
              <a:t>Плательщиками социальных отчислений</a:t>
            </a:r>
            <a:r>
              <a:rPr b="0" lang="en-US" sz="2800" spc="-1" strike="noStrike">
                <a:solidFill>
                  <a:srgbClr val="070014"/>
                </a:solidFill>
                <a:latin typeface="Book Antiqua"/>
              </a:rPr>
              <a:t> являются работодатель или самостоятельно занятое лицо (индивидуальный предприниматель, частный нотариус, адвокат, обеспечивающий себя работой, приносящий им доход), осуществляющие исчисление и уплату социальных отчислен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8920" y="476280"/>
            <a:ext cx="8713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0014"/>
                </a:solidFill>
                <a:latin typeface="Book Antiqua"/>
              </a:rPr>
              <a:t>Следует отметить, что сегодня система социального страхования стала важнейшим и необходимым элементом социально-экономических отношений современного Казахстана. Разработана законодательная база, определяющая основы системы обязательного социального страхования республики. Ее принципиальное отличие от других видов страхования (страхования имущества, транспортных средств и т.д.) состоит в том, что она обеспечивает защиту человека от материальной необеспеченности в связи с невозможностью участия в трудовой деятельност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0014"/>
                </a:solidFill>
                <a:latin typeface="Book Antiqua"/>
              </a:rPr>
              <a:t>4 Зарубежный опыт организации заработной платы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0014"/>
                </a:solidFill>
                <a:latin typeface="Book Antiqua"/>
              </a:rPr>
              <a:t>Следует рассмотреть методики оплаты труда, разработанные отдельными крупными зарубежными фирм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0014"/>
                </a:solidFill>
                <a:latin typeface="Book Antiqua"/>
              </a:rPr>
              <a:t>1) Оплата труда в компании «Siemens».</a:t>
            </a:r>
            <a:r>
              <a:rPr b="0" i="1" lang="ru-RU" sz="24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70014"/>
                </a:solidFill>
                <a:latin typeface="Book Antiqua"/>
              </a:rPr>
              <a:t>Использование тарифной сетки при формировании окладов - жесткая система тарифных сеток, дифференцированная для различных подразделений. Для каждой должности существует шесть категорий и семь градаци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0014"/>
                </a:solidFill>
                <a:latin typeface="Book Antiqua"/>
              </a:rPr>
              <a:t>Увеличение оклада происходит в зависимости от стажа работы и успехов. Гибкая система премий, зависящих от показателей работы группы, отдела и индивидуальных результатов плюс ежегодная премия, выплачиваемая в некоторых подразделениях два раза в год. Общий размер премий имеет верхнюю границ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0014"/>
                </a:solidFill>
                <a:latin typeface="Book Antiqua"/>
              </a:rPr>
              <a:t>Подразделения, связанные с реализацией, и некоммерческие имеют тариф и премию, в первом случае зависящую от объема продаж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42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70014"/>
                </a:solidFill>
                <a:latin typeface="Book Antiqua"/>
              </a:rPr>
              <a:t>2) Компания «Маркой».</a:t>
            </a:r>
            <a:r>
              <a:rPr b="0" i="1" lang="en-US" sz="26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en-US" sz="2600" spc="-1" strike="noStrike">
                <a:solidFill>
                  <a:srgbClr val="070014"/>
                </a:solidFill>
                <a:latin typeface="Book Antiqua"/>
              </a:rPr>
              <a:t>Унифицированная тарифная сетка, для каждой категории специалистов введены 18 разрядов и классы. В тарифной системе отражен уровень занятости, сложности и ответственности. Увеличение оклада происходит в зависимости от профессионального роста, стажа работы, отсутствия нарушений трудовой дисциплины. Премия варьируется от нижней фиксированной границы до верхней, определяемой эффективностью деятельности подразделения. Для отдела реализации - процент от реализации. Продавцы - тариф + премия +3,5% от прибыли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70014"/>
                </a:solidFill>
                <a:latin typeface="Book Antiqua"/>
              </a:rPr>
              <a:t>Должностные оклады строятся от официальной минимальной оплаты труда. Сверх этого работник получает премии в зависимости от показателей его работы и работы его подразделения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70014"/>
                </a:solidFill>
                <a:latin typeface="Book Antiqua"/>
              </a:rPr>
              <a:t>3) Расчет премиального фонда в компаниях Франции.</a:t>
            </a:r>
            <a:r>
              <a:rPr b="0" i="1" lang="en-US" sz="24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В стране законодательно установлено, что в компаниях с числом работников более 100 человек происходит обязательное формирование премиального фонда из прибыли по формуле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где: Р      - премиальный фонд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В     - прибыль, подлежащая налогообложению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J      - налог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С     - капитал предприяти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S     - сумма заработной плат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VA - величина добавленной стоимо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Формула показывает, что премиальный фонд формируется при условии, что чистая прибыль компании В - J больше чем 5% стоимости капитала и тем самым защищает долю собственников. Эти 5% стоимости капитала вычитаются из чистой прибыли, образуя обусловленную плату акционерам. Доля работников составляет х/2 норматива S/VA, т.е. соответствующей доли заработной платы в добавленной стоимо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0014"/>
                </a:solidFill>
                <a:latin typeface="Book Antiqua"/>
              </a:rPr>
              <a:t>4) Бестарифная система оплаты труда. Методика оценки труда в компании ЗМ.</a:t>
            </a:r>
            <a:r>
              <a:rPr b="0" i="1" lang="ru-RU" sz="26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ru-RU" sz="2600" spc="-1" strike="noStrike">
                <a:solidFill>
                  <a:srgbClr val="070014"/>
                </a:solidFill>
                <a:latin typeface="Book Antiqua"/>
              </a:rPr>
              <a:t>Первый шаг - четкое описание трудовых функций работника. Их анализ основывается на инвентаризации требований рабочего места и трудового процесса, способностей и потенциальных возможностей самого работника, на интервью при приеме на работу, и его собственных оценках и ожиданиях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0014"/>
                </a:solidFill>
                <a:latin typeface="Book Antiqua"/>
              </a:rPr>
              <a:t>Описание должностных функций в письменной форме составляется непосредственным руководителем при участии исполнителя. Полученный документ утверждается аттестационной комиссией и становится основным для последующих аттестаций, установления оплаты труда, принятия решений о продвижении и пересмотре должностных функций. Агрегированная оценка должностных функций, полученная на основе их формального описания, позволяет определить место работника в иерархии фирмы и установить базовую оплату его труда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0014"/>
                </a:solidFill>
                <a:latin typeface="Book Antiqua"/>
              </a:rPr>
              <a:t>1 Сущность и формы мотивации труд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70014"/>
                </a:solidFill>
                <a:latin typeface="Book Antiqua"/>
              </a:rPr>
              <a:t>Мотивация</a:t>
            </a:r>
            <a:r>
              <a:rPr b="0" lang="ru-RU" sz="3100" spc="-1" strike="noStrike">
                <a:solidFill>
                  <a:srgbClr val="070014"/>
                </a:solidFill>
                <a:latin typeface="Book Antiqua"/>
              </a:rPr>
              <a:t> - одна из основных функций деятельности любого менеджера, и именно с ее помощью оказывается воздействие на персонал предприятия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70014"/>
                </a:solidFill>
                <a:latin typeface="Book Antiqua"/>
              </a:rPr>
              <a:t>Главная задача</a:t>
            </a:r>
            <a:r>
              <a:rPr b="0" lang="ru-RU" sz="3100" spc="-1" strike="noStrike">
                <a:solidFill>
                  <a:srgbClr val="070014"/>
                </a:solidFill>
                <a:latin typeface="Book Antiqua"/>
              </a:rPr>
              <a:t> с точки зрения мотивационного процесса работников - это сделать их не столько обладателями средств производства, сколько владельцами своей собственной рабочей силы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280" y="1484280"/>
            <a:ext cx="4316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014"/>
                </a:solidFill>
                <a:latin typeface="Book Antiqua"/>
              </a:rPr>
              <a:t>Для производственного персонала: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070014"/>
              </a:buClr>
              <a:buSzPct val="7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знания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070014"/>
              </a:buClr>
              <a:buSzPct val="7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профессиональный опыт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070014"/>
              </a:buClr>
              <a:buSzPct val="7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способность работника к самостоятельному принятию решения в нестандартных ситуациях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070014"/>
              </a:buClr>
              <a:buSzPct val="7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доля ручного труда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070014"/>
              </a:buClr>
              <a:buSzPct val="7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ответственность за инструменты, оборудование, материалы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070014"/>
              </a:buClr>
              <a:buSzPct val="7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психологическая нагрузка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070014"/>
              </a:buClr>
              <a:buSzPct val="7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физические усилия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070014"/>
              </a:buClr>
              <a:buSzPct val="7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условия труда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070014"/>
              </a:buClr>
              <a:buSzPct val="7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вредность, риск травматизм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7960" y="1557360"/>
            <a:ext cx="42447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5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014"/>
                </a:solidFill>
                <a:latin typeface="Book Antiqua"/>
              </a:rPr>
              <a:t>Для служащих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90000"/>
              </a:lnSpc>
              <a:spcBef>
                <a:spcPts val="499"/>
              </a:spcBef>
              <a:buClr>
                <a:srgbClr val="070014"/>
              </a:buClr>
              <a:buSzPct val="7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знания и профессиональная подготовка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90000"/>
              </a:lnSpc>
              <a:spcBef>
                <a:spcPts val="499"/>
              </a:spcBef>
              <a:buClr>
                <a:srgbClr val="070014"/>
              </a:buClr>
              <a:buSzPct val="7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опыт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90000"/>
              </a:lnSpc>
              <a:spcBef>
                <a:spcPts val="499"/>
              </a:spcBef>
              <a:buClr>
                <a:srgbClr val="070014"/>
              </a:buClr>
              <a:buSzPct val="7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сложность обязанностей; ответственность за возможные ошибки: сотрудничество с другими работниками, сохранение конфиденциальной информации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90000"/>
              </a:lnSpc>
              <a:spcBef>
                <a:spcPts val="499"/>
              </a:spcBef>
              <a:buClr>
                <a:srgbClr val="070014"/>
              </a:buClr>
              <a:buSzPct val="7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условия труд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5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Если работник занимается управленческим трудом, то к этим функциям добавляются вид управленческой работы и число подчиненных работник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0014"/>
                </a:solidFill>
                <a:latin typeface="Book Antiqua"/>
              </a:rPr>
              <a:t>Оценка складывается на основе следующих факторов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0920" y="549360"/>
            <a:ext cx="3097080" cy="1844640"/>
          </a:xfrm>
          <a:prstGeom prst="rightArrow">
            <a:avLst>
              <a:gd name="adj1" fmla="val 50000"/>
              <a:gd name="adj2" fmla="val 4197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70014"/>
                </a:solidFill>
                <a:latin typeface="Book Antiqua"/>
              </a:rPr>
              <a:t>Сущность мотив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3789360"/>
            <a:ext cx="3241440" cy="2087640"/>
          </a:xfrm>
          <a:prstGeom prst="rightArrow">
            <a:avLst>
              <a:gd name="adj1" fmla="val 50000"/>
              <a:gd name="adj2" fmla="val 3881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70014"/>
                </a:solidFill>
                <a:latin typeface="Book Antiqua"/>
              </a:rPr>
              <a:t>Функция мо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2360" y="189000"/>
            <a:ext cx="5472360" cy="2376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014"/>
                </a:solidFill>
                <a:latin typeface="Book Antiqua"/>
              </a:rPr>
              <a:t>заключается в том, чтобы персонал фирмы выполнял работу в соответствии с делегированными ему правами и обязанностями, сообразуясь с принятыми управленческими решени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2852640"/>
            <a:ext cx="5329440" cy="3816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70014"/>
                </a:solidFill>
                <a:latin typeface="Book Antiqua"/>
              </a:rPr>
              <a:t>заключается в том, что она оказывает влияние на трудовой коллектив предприятия в форме побудительных мотивов к эффективному труду, общественного воздействия, коллективных и индивидуальных поощрительных мер. Указанные формы воздействия активизируют работу субъектов управления, повышают эффективность всей системы управления предприятием, организацией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7249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70014"/>
                </a:solidFill>
                <a:latin typeface="Book Antiqua"/>
              </a:rPr>
              <a:t>Мотивация труда</a:t>
            </a:r>
            <a:r>
              <a:rPr b="0" lang="ru-RU" sz="2900" spc="-1" strike="noStrike">
                <a:solidFill>
                  <a:srgbClr val="070014"/>
                </a:solidFill>
                <a:latin typeface="Book Antiqua"/>
              </a:rPr>
              <a:t> - это стремление работника удовлетворить потребности (получить определенные блага) посредством трудовой деятельности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70014"/>
                </a:solidFill>
                <a:latin typeface="Book Antiqua"/>
              </a:rPr>
              <a:t>Формирование мотива</a:t>
            </a:r>
            <a:r>
              <a:rPr b="0" lang="ru-RU" sz="29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1" i="1" lang="ru-RU" sz="2900" spc="-1" strike="noStrike">
                <a:solidFill>
                  <a:srgbClr val="070014"/>
                </a:solidFill>
                <a:latin typeface="Book Antiqua"/>
              </a:rPr>
              <a:t>труда</a:t>
            </a:r>
            <a:r>
              <a:rPr b="0" lang="ru-RU" sz="2900" spc="-1" strike="noStrike">
                <a:solidFill>
                  <a:srgbClr val="070014"/>
                </a:solidFill>
                <a:latin typeface="Book Antiqua"/>
              </a:rPr>
              <a:t> происходит в том случае, если в распоряжении субъекта управления имеется необходимый набор благ, соответствующий социально обусловленным потребностям человека. Для получения благ требуются личные трудовые усилия работника. Трудовая деятельность позволяет работнику получить эти блага с меньшими материальными и моральными издержками, чем любые другие виды деятельности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0014"/>
                </a:solidFill>
                <a:latin typeface="Book Antiqua"/>
              </a:rPr>
              <a:t>Система мотивации на уровне предприятия должна гарантировать: 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70014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014"/>
                </a:solidFill>
                <a:latin typeface="Book Antiqua"/>
              </a:rPr>
              <a:t>занятость всех работников трудом;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70014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014"/>
                </a:solidFill>
                <a:latin typeface="Book Antiqua"/>
              </a:rPr>
              <a:t>предоставление равных возможностей для профессионального и служебного роста;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70014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014"/>
                </a:solidFill>
                <a:latin typeface="Book Antiqua"/>
              </a:rPr>
              <a:t>согласованность уровня оплаты с результатами труда;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70014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014"/>
                </a:solidFill>
                <a:latin typeface="Book Antiqua"/>
              </a:rPr>
              <a:t>создание условий безопасности труда;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70014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0014"/>
                </a:solidFill>
                <a:latin typeface="Book Antiqua"/>
              </a:rPr>
              <a:t>поддержание в коллективе благоприятного психологического климата и др.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014"/>
                </a:solidFill>
                <a:latin typeface="Book Antiqua"/>
              </a:rPr>
              <a:t>Основными формами мотивации работников предприятия являются: 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1. Заработная плата, как объективная оценка вклада работника в результаты деятельности предприятия.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2. Система внутрифирменных льгот работникам: эффективное премирование, доплаты за стаж, страхование здоровья за счет предприятия, оплата расходов на проезд к месту работы и обратно, предоставление права выхода на работу в более удобное для работников время и т.д.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3. Мероприятия, повышающие привлекательность и содержательность труда, самостоятельность и ответственность работника.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4. Устранение статусных, административных и психологических барьеров между работниками, развитие доверия и взаимопонимания в коллективе.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5. Моральное поощрение работников.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6. Повышение квалификации и продвижение работников по службе.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0014"/>
                </a:solidFill>
                <a:latin typeface="Book Antiqua"/>
              </a:rPr>
              <a:t>Формы и системы заработной платы</a:t>
            </a:r>
            <a:r>
              <a:rPr b="0" lang="ru-RU" sz="2800" spc="-1" strike="noStrike">
                <a:solidFill>
                  <a:srgbClr val="070014"/>
                </a:solidFill>
                <a:latin typeface="Book Antiqua"/>
              </a:rPr>
              <a:t> представляют собой способы установления зависимости величины заработной платы от количества и качества затраченного труда с помощью совокупности количественных и качественных показателей, отражающих результаты труд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0014"/>
                </a:solidFill>
                <a:latin typeface="Book Antiqua"/>
              </a:rPr>
              <a:t>Основное их назначение</a:t>
            </a:r>
            <a:r>
              <a:rPr b="0" lang="ru-RU" sz="2800" spc="-1" strike="noStrike">
                <a:solidFill>
                  <a:srgbClr val="070014"/>
                </a:solidFill>
                <a:latin typeface="Book Antiqua"/>
              </a:rPr>
              <a:t> — обеспечение правильного соотношения между мерой труда и мерой его оплаты, а также повышение заинтересованности рабочих в эффективном труд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24000" y="40428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0014"/>
                </a:solidFill>
                <a:latin typeface="Garamond"/>
              </a:rPr>
              <a:t>2 Формы и системы заработной платы рабочих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4"/>
          <p:cNvSpPr/>
          <p:nvPr/>
        </p:nvSpPr>
        <p:spPr>
          <a:xfrm>
            <a:off x="179280" y="0"/>
            <a:ext cx="8748720" cy="1828800"/>
          </a:xfrm>
          <a:prstGeom prst="leftRightArrow">
            <a:avLst>
              <a:gd name="adj1" fmla="val 50000"/>
              <a:gd name="adj2" fmla="val 9523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Основные формы заработной пл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332000" y="1601640"/>
            <a:ext cx="3166920" cy="5256360"/>
          </a:xfrm>
          <a:prstGeom prst="downArrow">
            <a:avLst>
              <a:gd name="adj1" fmla="val 50000"/>
              <a:gd name="adj2" fmla="val 4149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4572000" y="1700280"/>
            <a:ext cx="3240000" cy="5157720"/>
          </a:xfrm>
          <a:prstGeom prst="downArrow">
            <a:avLst>
              <a:gd name="adj1" fmla="val 50000"/>
              <a:gd name="adj2" fmla="val 3979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014"/>
                </a:solidFill>
                <a:latin typeface="Book Antiqua"/>
                <a:ea typeface="Tahoma"/>
              </a:rPr>
              <a:t>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0014"/>
                </a:solidFill>
                <a:latin typeface="Book Antiqua"/>
              </a:rPr>
              <a:t>Повременная оплата труда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424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    </a:t>
            </a:r>
            <a:r>
              <a:rPr b="0" lang="ru-RU" sz="2400" spc="-1" strike="noStrike">
                <a:solidFill>
                  <a:srgbClr val="070014"/>
                </a:solidFill>
                <a:latin typeface="Book Antiqua"/>
              </a:rPr>
              <a:t>применяется, если невозможно или трудно нормировать труд, при строго регламентированных, высокомеханизированных и автоматизированных производственных процессах, в производствах, требующих высокого качества и точности выполнения работ, и там, где, нет надобности стимулировать интенсивность труд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0014"/>
                </a:solidFill>
                <a:latin typeface="Book Antiqua"/>
              </a:rPr>
              <a:t>Главное преимущество</a:t>
            </a:r>
            <a:r>
              <a:rPr b="0" lang="ru-RU" sz="2400" spc="-1" strike="noStrike">
                <a:solidFill>
                  <a:srgbClr val="070014"/>
                </a:solidFill>
                <a:latin typeface="Book Antiqua"/>
              </a:rPr>
              <a:t> для рабочего при повременной оплате труда состоит в том, что он имеет гарантированный ежемесячный заработок, не зависящий от возможного снижения уровня производства в данный период времени. </a:t>
            </a:r>
            <a:r>
              <a:rPr b="1" i="1" lang="ru-RU" sz="2400" spc="-1" strike="noStrike">
                <a:solidFill>
                  <a:srgbClr val="070014"/>
                </a:solidFill>
                <a:latin typeface="Book Antiqua"/>
              </a:rPr>
              <a:t>Недостатком</a:t>
            </a:r>
            <a:r>
              <a:rPr b="1" i="1" lang="ru-RU" sz="24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70014"/>
                </a:solidFill>
                <a:latin typeface="Book Antiqua"/>
              </a:rPr>
              <a:t>является то, что рабочий не имеет возможности повысить свой заработок путем увеличения личной доли участия в производственном процесс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6:11:20Z</dcterms:created>
  <dc:creator>User</dc:creator>
  <dc:description/>
  <dc:language>en-US</dc:language>
  <cp:lastModifiedBy>User</cp:lastModifiedBy>
  <dcterms:modified xsi:type="dcterms:W3CDTF">2012-01-17T08:43:28Z</dcterms:modified>
  <cp:revision>95</cp:revision>
  <dc:subject/>
  <dc:title>Слайд 1</dc:title>
</cp:coreProperties>
</file>